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91A-C8D5-45F5-864F-A3CBB19A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541-F3EE-484B-BEF4-CD437A52F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C8A7-DC5A-4853-8530-276C6562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4390-5F08-4723-83D5-29950A3A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AF1BB-51DB-4410-9C67-D33DDB2F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EC7C-BBEC-4232-AFF6-0F304BFE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A5C2-68E3-4BCF-A044-88CA9A773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1CEC5-A615-49CE-97B6-564987F6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0F57-E17D-4CB8-A7D0-F02EE3B3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033C-0E13-4928-A4B4-D5D4AD2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6A1C-BB33-4394-BBA2-5299CE3F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F5F6-EC50-47CC-91DB-6125EFE4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F6F21-CF1B-4305-8355-FDE12786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4F65-57FB-48F7-B415-9C1700E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9B5B-4E8C-410E-B109-12892799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B6B4-937C-4FC0-919C-7534CC82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62A-25BD-4EAF-9886-A0B8C873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AE4-3077-40C2-805D-4E13C353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7ADA-1929-438D-BE27-8862EAF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AE8A-6EAB-4365-A10E-4B6D616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6840-002A-4314-B029-08FAA41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0E4A-1C25-4971-8B8F-4831A512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AC4-B6EA-4B72-84CB-6633F804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906-D55E-4064-8D5F-2A4985A7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752-994D-44D4-BE67-116F6EF9205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B1C6-3E90-4E34-BC2A-FF92541C589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veloping Reading Ski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aches to Learning and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ext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first stage questions to develop scann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second stage questions which include: comprehension,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third stage questions to develop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go beyond the text to encourage students to make connections between what they have read and their own experiences and to other areas of learning 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might include a discussion, a task, a writing activity, a role-play – pretty much anyth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ign a post-reading task for the languages text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lying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approach should match reading purpo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difference between a reading text used to present new grammar and vocabulary and one used to develop read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s do not need to understand every word to get the meaning of a text, but they do need understand a lot of wo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phisticated readers transfer reading skills from one language to another; less sophisticated readers may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Vocabular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kimm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for 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ann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- for particular pieces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In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closely to find out as much as poss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Ex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broadly for general interest or f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hemata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information an individual stores which can be drawn upon to understand texts (Schema The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Top dow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holistically, using prediction, schemata and genre (amongst other things) to understand the tex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Bottom u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understanding each word, sentence, paragraph so that the text is underst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ing a reading skills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on the reading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what skill(s) you are trying to 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activating learners’ schem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ember that if the text is too difficult, learners will strug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introducing top down and bottom up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skills lessons are often divided into the following s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read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ad learners in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tivate them to read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ovide a context for the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duce anxiety about th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You mig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the title/headline and ask for predictions of text 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cit what learners know about the theme/topic (brainsto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some pictures and ask the learners to guess what order they go in in the text or ask students to predict the 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ach difficult vocabul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an outline of the text or some useful information abou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going to use the text with an intermediate class to practice scanning ski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pre-reading activities would you 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ities for while reading are usually in three stages:  activities to encourage students to get an overall understanding of the text; those which encourage students to work out more detailed meanings; and those which focus on particular grammar or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stage questions might include skimming or scanning ques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stage questions might include comprehension questions, questions of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tage questions might include finding synonyms, looking at grammatical patterns, identifying discourse mark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0T12:21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